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.png" ContentType="image/png"/>
  <Override PartName="/ppt/media/image26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1575-47BB-460A-A979-903924B7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2BE7-3C96-4B72-9E46-7DDDC40E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F4B5-AEED-460F-8348-FADBE32E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3B12-AB71-4CA8-9260-A287F9D4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903C-7813-4E95-9AC3-D1F105FB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3105-7266-4F0A-93A4-C3C66CE1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828-3812-406A-A7E0-89353B13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93E1-EC0C-4918-851F-0B9C5C42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3978-9F61-4E70-9064-2C0339E8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AFC1-DF88-4AF4-B0D7-7105506C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3A27-540A-41EF-936A-2699AC21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1D4D-0A57-46A9-8B08-98E16083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9D85-E314-4413-9F43-0F2C6E6E53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Биологический катализ. Фермен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over_14"/>
          <p:cNvPicPr/>
          <p:nvPr/>
        </p:nvPicPr>
        <p:blipFill>
          <a:blip r:embed="rId1"/>
          <a:stretch/>
        </p:blipFill>
        <p:spPr>
          <a:xfrm>
            <a:off x="3132000" y="2205000"/>
            <a:ext cx="2882880" cy="3529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1332000" y="580536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Алиса в стране чудес», иллюстрация John Tenniel,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The Nursery Alice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. (Mary Evans Picture Library, London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76A3-3775-40D9-964B-B529BB7873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Трансфер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8" name="Object 11"/>
          <p:cNvGraphicFramePr/>
          <p:nvPr/>
        </p:nvGraphicFramePr>
        <p:xfrm>
          <a:off x="395280" y="1268280"/>
          <a:ext cx="856944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68280"/>
                    <a:ext cx="856944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13"/>
          <p:cNvSpPr/>
          <p:nvPr/>
        </p:nvSpPr>
        <p:spPr>
          <a:xfrm>
            <a:off x="607320" y="37486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Где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AM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-аденозил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-метионин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7206-D298-4CBD-8270-7A6EAE2A35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Трансфер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468360" y="1056960"/>
            <a:ext cx="8424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1. – переносчики одно-углеродной группы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2. – переносчики карбонильных функций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3. – ацетилтрансферазы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4. – гликозилтрансфер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5. – переносчики алкильных (кроме метильных) и арильных групп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6. – переносчики азотистых функций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7. – переносчики фосфор-содержащих групп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8. – переносчики серу-содержащих функций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9. – переносчики селен-содержащих групп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E460-40A6-47B1-85C5-CC4C7063FF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Трансфер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611280" y="1602720"/>
            <a:ext cx="828180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1.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трансферазы одноуглеродной групп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1.1.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метилтрансфепразы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1.1.41.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стерол 24-С-метилтрансфераза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F05D-E70C-42E0-8B50-1B56A89C64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Гидрол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539640" y="1484280"/>
            <a:ext cx="8209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Протеазы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 –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гидролизуют белк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Нуклеазы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гидролизуют нуклеиновые кислоты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Специфические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эндонуклеазы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(так называемые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рестриктазы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разрывают полинуклеотиды по строго определенным последовательностям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F121-FBB0-4BD6-B154-7E762B6504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Гидрол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538200" y="1046880"/>
            <a:ext cx="849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1. – действуют на сложноэфирные связи, эстераз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2. – гликозилазы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3. – действуют на простоэфирные связ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4. – действуют на пептидные связи (пептид гидролазы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5. – действуют н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вязи, кроме пептидных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6. – действуют на ангидриды кисло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7. – действуют на углерод-углеродные связ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8. – действуют на связи с галогеном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9. – действуют на связи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10.– действуют н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вязи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11.– действуют н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вяз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12.– действуют н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вязи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13.– действуют н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вязи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7117-4A9F-4B5D-B3FC-EBAD673794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Гидрол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611280" y="1453680"/>
            <a:ext cx="83534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3.1 гидролазы действующие на сложноэфирную связь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3.1.1. гидролазы эфиров карбоновых кислот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3.1.1.1 карбоксилэстер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876240" y="4329000"/>
            <a:ext cx="719424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RCOOR</a:t>
            </a:r>
            <a:r>
              <a:rPr b="0" lang="ru-RU" sz="3400" spc="-1" strike="noStrike" baseline="30000">
                <a:solidFill>
                  <a:srgbClr val="000099"/>
                </a:solidFill>
                <a:latin typeface="Arial"/>
              </a:rPr>
              <a:t>1 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 H</a:t>
            </a:r>
            <a:r>
              <a:rPr b="0" lang="ru-RU" sz="34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=  </a:t>
            </a: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RCOOH 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+ </a:t>
            </a: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0" lang="ru-RU" sz="34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OH</a:t>
            </a:r>
            <a:r>
              <a:rPr b="1" lang="en-US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C4C6-E7D7-4B7A-888B-702529DC3B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и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612000" y="1165680"/>
            <a:ext cx="764064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1. – углерод-углеродные лиазы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2. – углерод-кислородные лиазы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3. – углерод-азотные лиазы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4. – углерод-серы лиазы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5. – углерод-галоген лиазы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6. – фосфор-кислородные лиазы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99.– другие лиазы.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DB0A-1373-42E9-AE68-6A53D86F47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и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39280" y="1053360"/>
            <a:ext cx="8082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 – карбокси ли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2. – альдегид ли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3. – оксо-кислотные ли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99. – другие углерод-углеродные ли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37120" y="3071520"/>
            <a:ext cx="83797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1. – пируват декарбоксилаза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…………………………………………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.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23. – оротидин-5-фосфат декабоксилаза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………………………………………………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31. – фосфоенолпируват карбоксилаза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39. – рибулозодифосфат карбоксилаза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50. – аденозилметионин декарбоксилаза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35D3-E53B-459D-8CBA-B2F2995C75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и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5" name="Object 8"/>
          <p:cNvGraphicFramePr/>
          <p:nvPr/>
        </p:nvGraphicFramePr>
        <p:xfrm>
          <a:off x="611280" y="1716120"/>
          <a:ext cx="828036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16120"/>
                    <a:ext cx="828036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C02D-04C4-47E4-A66A-20554115A1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зомер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25520" y="1127520"/>
            <a:ext cx="8539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1. – рацемазы и эпимер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2. – </a:t>
            </a: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цис-трас-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изомер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3. – внутримолекулярные оксидоредукт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4. – внутримолекулярные трансферазы (мутазы)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5. – внутримолекулярные ли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99. – другие изомеразы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41A8-38F5-47A0-BDBC-013959576D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лассификация энзимов – </a:t>
            </a:r>
            <a:br>
              <a:rPr sz="3400"/>
            </a:b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Е.С. (</a:t>
            </a:r>
            <a:r>
              <a:rPr b="1" lang="en-US" sz="3400" spc="-1" strike="noStrike">
                <a:solidFill>
                  <a:srgbClr val="000099"/>
                </a:solidFill>
                <a:latin typeface="Arial"/>
              </a:rPr>
              <a:t>Enzyme Classification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>
            <a:off x="539640" y="141300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7" name="Picture 35" descr=""/>
          <p:cNvPicPr/>
          <p:nvPr/>
        </p:nvPicPr>
        <p:blipFill>
          <a:blip r:embed="rId1"/>
          <a:stretch/>
        </p:blipFill>
        <p:spPr>
          <a:xfrm>
            <a:off x="395280" y="1960560"/>
            <a:ext cx="84978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2FE0-FA50-4588-842E-6623382D1B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зомер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611280" y="1342080"/>
            <a:ext cx="8028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1. рацемазы и эримеразы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1.3. действующие на углеводу и их производные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1.3.3. альдоза-1-эпимераза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72" name="Object 9"/>
          <p:cNvGraphicFramePr/>
          <p:nvPr/>
        </p:nvGraphicFramePr>
        <p:xfrm>
          <a:off x="539640" y="3429000"/>
          <a:ext cx="8209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429000"/>
                    <a:ext cx="8209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BB04-162F-4FC2-9C35-12856DADB8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Лигазы (синтетазы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607680" y="1269360"/>
            <a:ext cx="81496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1. – образуют углерод-кислородные связ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2. – образуют углерод-сера связи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3. – образуют углерод-азотные связ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4. – образуют углерод-углеродные связ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5. – образуют фосфат эфирные связи.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652320" y="3790080"/>
            <a:ext cx="82407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3. образующие углерод-азотные связ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3.1. кислота-аммиак (или амид) лигазы (амид синтазы)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3.1.1. аспарат-аммиак лигаза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619A-6F81-4D71-9A7D-7F8C4F88A9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9" name="Picture 10" descr=""/>
          <p:cNvPicPr/>
          <p:nvPr/>
        </p:nvPicPr>
        <p:blipFill>
          <a:blip r:embed="rId1"/>
          <a:srcRect l="2703" t="0" r="0" b="0"/>
          <a:stretch/>
        </p:blipFill>
        <p:spPr>
          <a:xfrm>
            <a:off x="1187280" y="981000"/>
            <a:ext cx="676944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87A9-6939-47DC-A1FF-C12102DC87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rcRect l="3896" t="4074" r="3833" b="0"/>
          <a:stretch/>
        </p:blipFill>
        <p:spPr>
          <a:xfrm>
            <a:off x="1260360" y="981000"/>
            <a:ext cx="6264360" cy="43452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9"/>
          <p:cNvSpPr/>
          <p:nvPr/>
        </p:nvSpPr>
        <p:spPr>
          <a:xfrm>
            <a:off x="179280" y="5362200"/>
            <a:ext cx="8964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Влияние концентрации субстрата на начальную скорость катализируемой ферментом реакции. Из такого графика можно определить величину </a:t>
            </a: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только путем аппроксимирования. Точное определение этой величины в данном случае невозможно, так как по мере повышения концентрации субстрата начальная скорость реакции лишь приближаете к </a:t>
            </a: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, но никогда ее не достигает. Концентрация субстрата, при которой скорость реакции составляет половину максимальной, численно равна К'м константе Михаэлиса - Ментен.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FCB2-2E7A-4213-83BC-FAAD569D88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540360" y="1125000"/>
            <a:ext cx="379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Виктор Генри (1903 г.)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576000" y="1699920"/>
            <a:ext cx="666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Леонор Михаэлис, Мод Ментен (1913 г.)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06" name="Object 11"/>
          <p:cNvGraphicFramePr/>
          <p:nvPr/>
        </p:nvGraphicFramePr>
        <p:xfrm>
          <a:off x="1979640" y="2565360"/>
          <a:ext cx="4680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565360"/>
                    <a:ext cx="4680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1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09" name="Object 13"/>
          <p:cNvGraphicFramePr/>
          <p:nvPr/>
        </p:nvGraphicFramePr>
        <p:xfrm>
          <a:off x="1979640" y="3789360"/>
          <a:ext cx="460836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789360"/>
                    <a:ext cx="460836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12" name="Object 15"/>
          <p:cNvGraphicFramePr/>
          <p:nvPr/>
        </p:nvGraphicFramePr>
        <p:xfrm>
          <a:off x="2050920" y="5084640"/>
          <a:ext cx="4608720" cy="81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5084640"/>
                    <a:ext cx="46087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A167-8556-4430-B534-DE9590B9E7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538200" y="1041120"/>
            <a:ext cx="479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Модель Михаэлиса-Ментон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23" name="Picture 15" descr=""/>
          <p:cNvPicPr/>
          <p:nvPr/>
        </p:nvPicPr>
        <p:blipFill>
          <a:blip r:embed="rId1"/>
          <a:srcRect l="3896" t="4074" r="3833" b="0"/>
          <a:stretch/>
        </p:blipFill>
        <p:spPr>
          <a:xfrm>
            <a:off x="611280" y="1700280"/>
            <a:ext cx="56689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3C07-EF9D-4A5B-9889-BEBB3C0888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538200" y="1041120"/>
            <a:ext cx="479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Модель Михаэлиса-Ментон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611280" y="2164680"/>
            <a:ext cx="806436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1" i="1" lang="ru-RU" sz="2600" spc="-1" strike="noStrike" baseline="-25000">
                <a:solidFill>
                  <a:srgbClr val="ff3300"/>
                </a:solidFill>
                <a:latin typeface="Arial"/>
              </a:rPr>
              <a:t>м</a:t>
            </a:r>
            <a:r>
              <a:rPr b="1" i="1" lang="ru-RU" sz="26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константа Михаэлиса-Ментен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концентрация специфического субстрата, при которой данный фермент обеспечивает скорость реакции, равную половине ее максимальной скорости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4303-2CA5-4277-96B3-FCB14C147E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538200" y="1041120"/>
            <a:ext cx="479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Модель Михаэлиса-Ментон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1"/>
              <p:cNvSpPr txBox="1"/>
              <p:nvPr/>
            </p:nvSpPr>
            <p:spPr>
              <a:xfrm>
                <a:off x="1835280" y="2349360"/>
                <a:ext cx="446544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Rectangle 13"/>
          <p:cNvSpPr/>
          <p:nvPr/>
        </p:nvSpPr>
        <p:spPr>
          <a:xfrm>
            <a:off x="609120" y="1699920"/>
            <a:ext cx="54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Уравнение Михаэлиса-Ментен</a:t>
            </a: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395280" y="4477320"/>
            <a:ext cx="849780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где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0" lang="ru-RU" sz="26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начальная скорость при концентрации субстрата [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], </a:t>
            </a:r>
            <a:r>
              <a:rPr b="0" i="1" lang="en-US" sz="26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0" i="1" lang="en-US" sz="2600" spc="-1" strike="noStrike" baseline="-25000">
                <a:solidFill>
                  <a:srgbClr val="000099"/>
                </a:solidFill>
                <a:latin typeface="Arial"/>
              </a:rPr>
              <a:t>max</a:t>
            </a:r>
            <a:r>
              <a:rPr b="0" i="1" lang="ru-RU" sz="26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максимальная скорость и К</a:t>
            </a:r>
            <a:r>
              <a:rPr b="0" lang="ru-RU" sz="2600" spc="-1" strike="noStrike" baseline="-25000">
                <a:solidFill>
                  <a:srgbClr val="000099"/>
                </a:solidFill>
                <a:latin typeface="Arial"/>
              </a:rPr>
              <a:t>м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3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константа Михаэлиса-Ментен для данного фермента, соответствующая определенному субстрату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E086-68F7-4C14-92E0-68E76A7F21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538200" y="1041120"/>
            <a:ext cx="479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Модель Михаэлиса-Ментон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674720"/>
          <a:ext cx="8532720" cy="5002200"/>
        </p:xfrm>
        <a:graphic>
          <a:graphicData uri="http://schemas.openxmlformats.org/drawingml/2006/table">
            <a:tbl>
              <a:tblPr/>
              <a:tblGrid>
                <a:gridCol w="3024000"/>
                <a:gridCol w="3960720"/>
                <a:gridCol w="1548000"/>
              </a:tblGrid>
              <a:tr h="758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Значения констант Михаэлиса-Ментен (</a:t>
                      </a:r>
                      <a:r>
                        <a:rPr b="1" i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i="1" lang="ru-RU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) для некоторых 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рменто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рмент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убстрат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</a:t>
                      </a:r>
                      <a:r>
                        <a:rPr b="1" i="1" lang="ru-RU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м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атала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ексокина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мозг)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ТР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глюко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фрукто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арбоангидра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СОз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Химотрипсин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лицил-тирозинил-глицин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бензоилтирозинами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β-Галактозида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лакто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реониндегидрата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треонин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2C02-B349-43A2-9671-73C8B69BE1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68360" y="95868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Зависимость скорости ферментативных реакций от рН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Rectangle 48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59" name="Object 47"/>
          <p:cNvGraphicFramePr/>
          <p:nvPr/>
        </p:nvGraphicFramePr>
        <p:xfrm>
          <a:off x="395280" y="2090880"/>
          <a:ext cx="5472000" cy="41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90880"/>
                    <a:ext cx="547200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49"/>
          <p:cNvSpPr/>
          <p:nvPr/>
        </p:nvSpPr>
        <p:spPr>
          <a:xfrm>
            <a:off x="5722920" y="2995920"/>
            <a:ext cx="3457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Зависимость активности ферментов (для удобства сравнения приведены активности, нормированные к единице) от рН. </a:t>
            </a:r>
            <a:br>
              <a:rPr sz="2000"/>
            </a:b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— Пепсин, </a:t>
            </a:r>
            <a:br>
              <a:rPr sz="2000"/>
            </a:b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— рибонуклеаза, </a:t>
            </a:r>
            <a:br>
              <a:rPr sz="2000"/>
            </a:b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 — аргиназа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59D5-2CC2-4211-9533-07B142D3AA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лассификация энзимов – </a:t>
            </a:r>
            <a:br>
              <a:rPr sz="3400"/>
            </a:b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Е.С. (</a:t>
            </a:r>
            <a:r>
              <a:rPr b="1" lang="en-US" sz="3400" spc="-1" strike="noStrike">
                <a:solidFill>
                  <a:srgbClr val="000099"/>
                </a:solidFill>
                <a:latin typeface="Arial"/>
              </a:rPr>
              <a:t>Enzyme Classification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>
            <a:off x="539640" y="141300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726840" y="1908720"/>
            <a:ext cx="807156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 – оксидоредукт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oxidoreductases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2. – трансфер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transferases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3. – гидрол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hydrolases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4. – ли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lyases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5. – изомер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isomerases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6. – лиг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ligases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1E41-587A-4117-8A1E-519FC03702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468360" y="95868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Зависимость скорости ферментативных реакций от рН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50920" y="2708280"/>
          <a:ext cx="8642160" cy="352116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рмент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птимум р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пси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рипси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атал аза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ргиназа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,7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умараза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ибонуклеаза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0" name="Rectangle 97"/>
          <p:cNvSpPr/>
          <p:nvPr/>
        </p:nvSpPr>
        <p:spPr>
          <a:xfrm>
            <a:off x="250920" y="2114280"/>
            <a:ext cx="864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Оптимальные значения рН для некоторых ферментов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CC81-2679-425E-84FF-29540F8B61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468360" y="95868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Количество фермента можно определить по его активност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468360" y="2025720"/>
            <a:ext cx="8424720" cy="39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За единицу активности фермента принимается такое количество фермента, которое катализирует превращение 1 мкмоля субстрата (1 мкмоль = 10–6 моля) в 1 мин при 25°С в оптимальных условиях действия фермента.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Удельной активностью </a:t>
            </a: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называется число единиц ферментативной активности в расчете на 1 мг белка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9982-A0BA-4222-878D-2419A3439F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Специфичность ферментов по отношению к субстратам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539640" y="141300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80" name="Object 6"/>
          <p:cNvGraphicFramePr/>
          <p:nvPr/>
        </p:nvGraphicFramePr>
        <p:xfrm>
          <a:off x="826920" y="1413000"/>
          <a:ext cx="7993080" cy="27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13000"/>
                    <a:ext cx="799308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Rectangle 9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83" name="Object 8"/>
          <p:cNvGraphicFramePr/>
          <p:nvPr/>
        </p:nvGraphicFramePr>
        <p:xfrm>
          <a:off x="2050920" y="4292640"/>
          <a:ext cx="5759640" cy="24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4292640"/>
                    <a:ext cx="575964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C8D8-6B03-45C9-B210-9433D5B47C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91" name="Object 8"/>
          <p:cNvGraphicFramePr/>
          <p:nvPr/>
        </p:nvGraphicFramePr>
        <p:xfrm>
          <a:off x="250920" y="2708280"/>
          <a:ext cx="8713800" cy="14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08280"/>
                    <a:ext cx="871380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AE34-083E-4427-86B9-1F3EDD78CA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rcRect l="0" t="0" r="0" b="15496"/>
          <a:stretch/>
        </p:blipFill>
        <p:spPr>
          <a:xfrm>
            <a:off x="900000" y="1557360"/>
            <a:ext cx="705672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AAA7-75D2-4B52-BA11-7131ED6C35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06" name="Picture 8" descr=""/>
          <p:cNvPicPr/>
          <p:nvPr/>
        </p:nvPicPr>
        <p:blipFill>
          <a:blip r:embed="rId1"/>
          <a:srcRect l="0" t="0" r="0" b="13424"/>
          <a:stretch/>
        </p:blipFill>
        <p:spPr>
          <a:xfrm>
            <a:off x="1042920" y="1484280"/>
            <a:ext cx="734544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7F2D-C133-418B-A3D7-E00E9343DA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14" name="Object 8"/>
          <p:cNvGraphicFramePr/>
          <p:nvPr/>
        </p:nvGraphicFramePr>
        <p:xfrm>
          <a:off x="900000" y="1628640"/>
          <a:ext cx="7417080" cy="44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28640"/>
                    <a:ext cx="7417080" cy="44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CDD5-09D3-4729-8975-F14596F6A2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23" name="Picture 9" descr="elast_0"/>
          <p:cNvPicPr/>
          <p:nvPr/>
        </p:nvPicPr>
        <p:blipFill>
          <a:blip r:embed="rId1"/>
          <a:srcRect l="12791" t="0" r="12791" b="0"/>
          <a:stretch/>
        </p:blipFill>
        <p:spPr>
          <a:xfrm>
            <a:off x="755640" y="1413000"/>
            <a:ext cx="755964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7EF5-5D45-44C7-A3DB-336B2AC7C1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32" name="Object 9"/>
          <p:cNvGraphicFramePr/>
          <p:nvPr/>
        </p:nvGraphicFramePr>
        <p:xfrm>
          <a:off x="1738440" y="1341360"/>
          <a:ext cx="492120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1341360"/>
                    <a:ext cx="492120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63FC-B415-4D17-B40D-92A4B99248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1"/>
          <a:srcRect l="0" t="0" r="-4685" b="0"/>
          <a:stretch/>
        </p:blipFill>
        <p:spPr>
          <a:xfrm>
            <a:off x="1403280" y="1528920"/>
            <a:ext cx="59752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DFF4-1CBF-48CF-B4A6-C7ECF37145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ксиредуктаз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11280" y="1677600"/>
            <a:ext cx="80661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Дегидрогеназы (редуктазы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Оксидаз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Пероксидаз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Гидроксилаз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Оксигеназ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Гидрогеназы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6758-BF63-46F3-99D0-072A33F958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52" name="Object 10"/>
          <p:cNvGraphicFramePr/>
          <p:nvPr/>
        </p:nvGraphicFramePr>
        <p:xfrm>
          <a:off x="34920" y="1484280"/>
          <a:ext cx="547200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484280"/>
                    <a:ext cx="547200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Rectangle 12"/>
          <p:cNvSpPr/>
          <p:nvPr/>
        </p:nvSpPr>
        <p:spPr>
          <a:xfrm>
            <a:off x="5508720" y="1764720"/>
            <a:ext cx="36352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Трехмерная структура активного центра рибонуклеазы А по данным рентгено-структурного анализа. Для удобства показаны лишь участки полипептидной цепи несущие связывающие и каталитические группы. Полипептидые цепи представлены ходом пептидного остова (темно-серые), связывающие и каталитические группы — палочковыми моделями (светло-серые), модель субстрата [уридилил(3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´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аденозин] — черной палочковой моделью. Водородные связи обозначены пунктиром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01A7-0455-4E1F-8651-DCA68264E6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Rectangle 1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65" name="Object 12"/>
          <p:cNvGraphicFramePr/>
          <p:nvPr/>
        </p:nvGraphicFramePr>
        <p:xfrm>
          <a:off x="108000" y="1484280"/>
          <a:ext cx="5688000" cy="49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84280"/>
                    <a:ext cx="5688000" cy="49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14"/>
          <p:cNvSpPr/>
          <p:nvPr/>
        </p:nvSpPr>
        <p:spPr>
          <a:xfrm>
            <a:off x="5867280" y="4075200"/>
            <a:ext cx="32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Укладка субстрата [аденилил(3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уридилил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(3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5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аденилил(3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 аденозина] в третичной структуре фермента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F92B-F0C1-468F-AAAE-78BE9723F7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4358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Факторы, определяющие каталитическую эффективность фер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"/>
          <p:cNvSpPr/>
          <p:nvPr/>
        </p:nvSpPr>
        <p:spPr>
          <a:xfrm>
            <a:off x="539640" y="184464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Rectangle 13"/>
          <p:cNvSpPr/>
          <p:nvPr/>
        </p:nvSpPr>
        <p:spPr>
          <a:xfrm>
            <a:off x="468360" y="2354760"/>
            <a:ext cx="8064360" cy="33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Сближение и ориентация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Напряжение и деформация; индуцированное соответствие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Общий кислотно-основной катализ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Ковалентный катализ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0E99-2D84-4BC5-9027-18B63CC4FF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ксиредуктаз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539640" y="1142640"/>
            <a:ext cx="8353440" cy="53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 – действует на СН-ОН функцию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2. – действует на альдегидную группу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3. – действует на СН-СН группу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0. – действует на дифенолы и родственные групп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3. – действует на простую связь с внедрением молекулярного кислорода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………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7. – действует на СН</a:t>
            </a:r>
            <a:r>
              <a:rPr b="1" lang="ru-RU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фрагмен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B9C9-8128-44BA-94C8-D3D78C546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ксиредуктаз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16680" y="1198080"/>
            <a:ext cx="520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 –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AD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+ или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ADP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2. – цитохромом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3. – кислородом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4. – дисульфидом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5. – хиноном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ABCB-338A-46FD-AF05-8374AB5F0A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ксиредуктаз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5960" y="1181880"/>
            <a:ext cx="80737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1. – алкоголь дегидрогеназа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AD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+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2. – алкоголь дегидрогеназа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ADP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27 –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лактат дегидрогеназа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32 – мевальдат редуктаза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62 – эстрадиол 17-β-дегидрогеназа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EF67-70B3-4939-B29B-B337CE719F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ксиредуктаз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542160" y="1426680"/>
            <a:ext cx="192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1.1.1.1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3" name="Object 6"/>
          <p:cNvGraphicFramePr/>
          <p:nvPr/>
        </p:nvGraphicFramePr>
        <p:xfrm>
          <a:off x="395280" y="2436840"/>
          <a:ext cx="8424720" cy="14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436840"/>
                    <a:ext cx="84247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9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6" name="Object 8"/>
          <p:cNvGraphicFramePr/>
          <p:nvPr/>
        </p:nvGraphicFramePr>
        <p:xfrm>
          <a:off x="684360" y="4653000"/>
          <a:ext cx="741672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653000"/>
                    <a:ext cx="741672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3FE1-CE6E-4B84-8115-17F2C7B12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Трансфер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84" name="Object 9"/>
          <p:cNvGraphicFramePr/>
          <p:nvPr/>
        </p:nvGraphicFramePr>
        <p:xfrm>
          <a:off x="611280" y="1341360"/>
          <a:ext cx="822168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82216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12"/>
          <p:cNvSpPr/>
          <p:nvPr/>
        </p:nvSpPr>
        <p:spPr>
          <a:xfrm>
            <a:off x="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87" name="Object 11"/>
          <p:cNvGraphicFramePr/>
          <p:nvPr/>
        </p:nvGraphicFramePr>
        <p:xfrm>
          <a:off x="2195640" y="2276640"/>
          <a:ext cx="3671640" cy="29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2276640"/>
                    <a:ext cx="367164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3"/>
          <p:cNvSpPr/>
          <p:nvPr/>
        </p:nvSpPr>
        <p:spPr>
          <a:xfrm>
            <a:off x="2588400" y="5477400"/>
            <a:ext cx="30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-Аденозил-метионин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3:40Z</dcterms:created>
  <dc:creator>Markin</dc:creator>
  <dc:description/>
  <dc:language>en-US</dc:language>
  <cp:lastModifiedBy>Admin</cp:lastModifiedBy>
  <dcterms:modified xsi:type="dcterms:W3CDTF">2012-03-28T13:30:19Z</dcterms:modified>
  <cp:revision>67</cp:revision>
  <dc:subject/>
  <dc:title>Биологический катализ. Ферменты </dc:title>
</cp:coreProperties>
</file>